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2FFD-99DC-4087-80CD-08501BB77D69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FF2-A8C1-43C7-A85F-DBF5ADE9DBB2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89A-3A3E-41FD-9E15-A355011C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435-8A57-4722-A04D-5CEA7F0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9E402-0D0A-44CD-B2BE-BBAC0595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80229-E1CA-4838-AE14-1989B1E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E2CA0-EC50-47CD-8B54-A58EDA2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DBCE2-CE3C-441A-9F0A-9A448BB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C5EF-467F-40A4-B315-448637D1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824CD-13D3-4E3E-ADD4-96D2BDA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06340-96B0-4134-A952-B0EC083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E9BD-5AAB-455D-B988-0645FFDF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8430F-3432-4709-8499-5882A887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091-2AEA-4391-951D-DDCB1EAC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F7C-9C46-49EB-878F-C6E2FA8B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AB2-472C-41BA-A8C5-3DAD58CE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1968-564A-4549-932A-CCB2673E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FF57-8ECD-47E3-BD6A-28FF5458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343-8683-461B-B02F-12E18B2F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2047-4CF1-4595-B8E3-7CD41D3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F66-0F93-4B21-9A98-C22B466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11C8-B2DD-467F-9B97-8E7A84F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C84-D0C4-4209-97A3-B0D88EFC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6B2-2A4C-4749-B061-B848215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F33C-334B-4700-95A5-B19F33D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E77-AE32-40DF-8CDB-3FA1AEC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2BB5-6665-455A-A168-ED899170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DD42-4708-433E-B0D6-D9F86EAE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A7FB-970E-410D-ADEA-CC57971B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28AB-2AC9-4490-AA82-04213E8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2528-FEBB-4508-BCFE-AF1245FC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AA21-FD69-48EF-B140-64146D1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591D-A3FA-44E0-948C-62944A8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D76-AE63-49CB-974C-2F480A5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2CA2-EE8A-486E-8266-CB3B4E9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ADCF-1D31-4099-BB61-960316D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0398-724E-4C7D-B7E9-88A2187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F994-5069-48CF-91E3-DFD0C5E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1788-C4EF-4B01-9BA0-0E5E6C6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CF0D-FC7B-4C05-98DE-F609996F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A20D-D415-4026-9454-52A8C890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0C8C-D5DB-4864-9928-D69AD949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97FD-570C-4412-A9EF-C926B1FE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2DAC-228A-463C-B4AB-32A504D9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277-5331-4BC6-9952-F585CB5C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A6CB-9B07-4C76-95EA-9F54026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AAED6-2AE1-4836-8F8F-0E6AE61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506C-4E1A-4D2C-86DF-C054187D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2194-6392-4369-B650-8CD2CE8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22DD-F02C-4A66-BE2E-63D3EA2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E6C5-2FAE-48EB-9B4F-A29867B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58C3-3B33-4CCE-9BEA-C582A28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74AA-51B6-4A98-82BC-4414E3D4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18A8-B39F-4B5D-A53D-E742840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225E-2AC4-49D8-8255-DB96DDFE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C2B-DA42-467E-B0F5-DD7CEA9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42B1-3893-456C-BD21-9802E52E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6A95-7C26-433F-9491-9D09CE5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E3FA-F49A-4A7D-BFA6-79521F7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85AF-2AAD-49C2-A195-F37E697F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A2E1-ADAA-4E6D-A1E7-F6AA611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0BF2-D059-4FC9-A21A-A38556C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17C6-8224-4C14-8F33-DC4F43EB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E313-FD75-447C-B6B0-508C240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5A9E-A408-483D-BCDB-3D6DE4E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C9C2-28A4-45DB-A1BE-ABA1F384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12B-6671-4B78-A940-5CC7AB2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2108-51B1-4D3D-B372-114AC5D4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7109-261A-4C51-A8F9-4C0424F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F3AF-BD66-43D1-B58B-8710725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90D6-D68A-4728-99F3-5F3BF3C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1CFC-73DB-43A4-A16C-E7D2A78A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A072-41A3-4231-AF14-ED4A741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92BD-7276-4C83-A6F1-6B43115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2BCB-DC13-406F-A986-0BEA93E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FE5F-2315-4395-9D84-5FE935A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4D70-7F35-481B-A211-1C49A57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95B-50DE-4B30-82B4-06CD47F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D357-6B11-4E36-A4E3-283ECCFF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F218-78E7-45A7-A50D-2F831193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6E38-F18A-4FA1-9E58-7CCBE81A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6B07-505C-490E-ABB5-B379C62A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584D-1AA0-4C9D-B40A-AF582F3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5C56-6CB0-4F25-8AAD-4B1DF02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3349B-A7D0-4985-AD6D-B21EC210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77C6-56EB-461B-8746-952CF8B9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EF0F-25DA-4A0F-864A-6AD77E8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ADA2-9054-40AA-8708-98CC985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F14-FC99-4515-B22C-6CDE4C4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3C7F-2D48-4FEF-BF10-E7DA82F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1E77-2C4F-4BD8-B742-2CA262F0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D675-3157-42D7-B581-EB1E5849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F39C4-2BFF-4FDD-9DBF-320C93B2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4439-1AAA-469A-89E9-7384FC48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C219B-8FCF-46C8-8D26-DB299DF6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2F8B-80B8-4F29-96DC-6981DDA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FD53F-B4DA-4469-A8C8-32536D3E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11BE7-264C-4CA3-B483-99211F7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96E3-68EA-4FAC-ABC6-57467A8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6C5-8BFB-4571-864C-BCCF6DD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E506-7178-40DA-AAFD-7884CCD3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10EF-81BF-4BF1-9BD8-B16B73B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8221-4F9F-4A40-8021-AF15C58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01CF9-5E64-4D9D-B3C0-2FB2433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E4B7-CE6D-497F-8EFB-7EC03BB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8B457-2BD9-451D-A0D9-590B575D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F84B-04A0-4E9B-8892-29026506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05F81-AE87-4930-80B1-1FB32787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E939D-FF8C-4854-A96F-E339B75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B6D96-8021-4EBB-94A8-6CB9D79E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5B1-924A-460E-B71D-12FFAE026D2A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CD4-F18C-46DC-9B23-3179AF891BCA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B23-A3AC-4773-BB0C-4189AA4CF692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358-6153-4108-8F96-C65325EB01C7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95C-F469-49DC-AE66-C78E2589AFFA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3573-D355-49DF-98A6-8AA2C53D6076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8592-B46F-467E-88D7-929E241D03D8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225-2474-4164-8B74-95900D251758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34D1-1523-451E-B0F8-479C6C4A7B79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ebster.hibo.no/alu/a310/tverlandet/Samfunnsfag/defa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logster.com/" TargetMode="External"/><Relationship Id="rId2" Type="http://schemas.openxmlformats.org/officeDocument/2006/relationships/hyperlink" Target="http://xxroboticzxx.glogster.com/Stop-Cyberbullying/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ittel 1" descr=""/>
          <p:cNvPicPr/>
          <p:nvPr/>
        </p:nvPicPr>
        <p:blipFill>
          <a:blip r:embed="rId1"/>
          <a:stretch/>
        </p:blipFill>
        <p:spPr>
          <a:xfrm>
            <a:off x="682560" y="1852560"/>
            <a:ext cx="8077320" cy="14810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28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tel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2143080" y="1714320"/>
            <a:ext cx="55879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Format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ayout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Estetikk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Program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Visuell kommunikasjon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Produsere, ikke bare konsumer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age/gjøre, ikke bare se/hør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Blir elevene motivert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ærer de (bedre)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Hva lærer de da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595760" y="214200"/>
            <a:ext cx="4308480" cy="6429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289400" cy="6429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286160" cy="628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2"/>
          <a:stretch/>
        </p:blipFill>
        <p:spPr>
          <a:xfrm>
            <a:off x="4714920" y="285840"/>
            <a:ext cx="4078080" cy="62863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3489480" cy="4525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4929120" y="1643040"/>
            <a:ext cx="2617920" cy="3714840"/>
          </a:xfrm>
          <a:prstGeom prst="rect">
            <a:avLst/>
          </a:prstGeom>
          <a:ln w="0">
            <a:noFill/>
          </a:ln>
        </p:spPr>
      </p:pic>
      <p:sp>
        <p:nvSpPr>
          <p:cNvPr id="519" name="TekstSylinder 5"/>
          <p:cNvSpPr/>
          <p:nvPr/>
        </p:nvSpPr>
        <p:spPr>
          <a:xfrm>
            <a:off x="5429160" y="5643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Laget i … 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20" name="Rett pil 7"/>
          <p:cNvCxnSpPr/>
          <p:nvPr/>
        </p:nvCxnSpPr>
        <p:spPr>
          <a:xfrm flipH="1" flipV="1">
            <a:off x="3928680" y="5428440"/>
            <a:ext cx="1286640" cy="429480"/>
          </a:xfrm>
          <a:prstGeom prst="straightConnector1">
            <a:avLst/>
          </a:prstGeom>
          <a:ln w="12600">
            <a:solidFill>
              <a:srgbClr val="006aed"/>
            </a:solidFill>
            <a:miter/>
            <a:tailEnd len="med" type="arrow" w="med"/>
          </a:ln>
        </p:spPr>
      </p:cxnSp>
      <p:cxnSp>
        <p:nvCxnSpPr>
          <p:cNvPr id="521" name="Rett pil 9"/>
          <p:cNvCxnSpPr/>
          <p:nvPr/>
        </p:nvCxnSpPr>
        <p:spPr>
          <a:xfrm flipH="1" flipV="1">
            <a:off x="5214600" y="1713960"/>
            <a:ext cx="1000800" cy="3858120"/>
          </a:xfrm>
          <a:prstGeom prst="straightConnector1">
            <a:avLst/>
          </a:prstGeom>
          <a:ln w="12600">
            <a:solidFill>
              <a:srgbClr val="006aed"/>
            </a:solidFill>
            <a:miter/>
            <a:tailEnd len="med" type="arrow" w="med"/>
          </a:ln>
        </p:spPr>
      </p:cxn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http://webster.hibo.no/alu/a310/tverlandet/Samfunnsfag/Samfunnsfag/images/ppt%20hvordan%20lage%20plakat_Page_1.jpg"/>
          <p:cNvPicPr/>
          <p:nvPr/>
        </p:nvPicPr>
        <p:blipFill>
          <a:blip r:embed="rId1"/>
          <a:stretch/>
        </p:blipFill>
        <p:spPr>
          <a:xfrm>
            <a:off x="428760" y="642960"/>
            <a:ext cx="4073400" cy="5429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http://webster.hibo.no/alu/a310/tverlandet/Samfunnsfag/Samfunnsfag/images/ppt%20hvordan%20lage%20plakat_Page_2.jpg"/>
          <p:cNvPicPr/>
          <p:nvPr/>
        </p:nvPicPr>
        <p:blipFill>
          <a:blip r:embed="rId2"/>
          <a:stretch/>
        </p:blipFill>
        <p:spPr>
          <a:xfrm>
            <a:off x="4572000" y="642960"/>
            <a:ext cx="4075200" cy="5430960"/>
          </a:xfrm>
          <a:prstGeom prst="rect">
            <a:avLst/>
          </a:prstGeom>
          <a:ln w="0">
            <a:noFill/>
          </a:ln>
        </p:spPr>
      </p:pic>
      <p:sp>
        <p:nvSpPr>
          <p:cNvPr id="524" name="TekstSylinder 3"/>
          <p:cNvSpPr/>
          <p:nvPr/>
        </p:nvSpPr>
        <p:spPr>
          <a:xfrm>
            <a:off x="2857680" y="6286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webster.hibo.no/alu/a310/tverlandet/Samfunnsfag/default.html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To sammen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Emne/tema fra ditt fag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9 ”bokser” (fire bilder og 5 med tekst?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To bilder skal være dine egne, behandlet/ tilpasset i PhotoFiltre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Bruk Word og en tabell med 9 ruter som utgangspunkt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I skoleoppgaver krav om egneproduserte tekster og ryddig kildebruk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2000160" cy="2276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3"/>
          <a:stretch/>
        </p:blipFill>
        <p:spPr>
          <a:xfrm>
            <a:off x="5572080" y="3714840"/>
            <a:ext cx="2338560" cy="2697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4"/>
          <a:stretch/>
        </p:blipFill>
        <p:spPr>
          <a:xfrm>
            <a:off x="1297080" y="164304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ktangel 1"/>
          <p:cNvSpPr/>
          <p:nvPr/>
        </p:nvSpPr>
        <p:spPr>
          <a:xfrm>
            <a:off x="1857240" y="92880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32"/>
                </a:solidFill>
                <a:latin typeface="Arial"/>
                <a:ea typeface="宋体"/>
              </a:rPr>
              <a:t>Plakat/reklame: Glogster: </a:t>
            </a:r>
            <a:r>
              <a:rPr b="0" lang="nb-NO" sz="1800" spc="-1" strike="noStrike" u="sng">
                <a:solidFill>
                  <a:srgbClr val="e78707"/>
                </a:solidFill>
                <a:uFillTx/>
                <a:latin typeface="Arial"/>
                <a:ea typeface="宋体"/>
                <a:hlinkClick r:id="rId1"/>
              </a:rPr>
              <a:t>http://www.glogster.com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2" name="Picture 4" descr="Stop Cyberbullying picture 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500120"/>
            <a:ext cx="3143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5:07:42Z</dcterms:created>
  <dc:creator>seni</dc:creator>
  <dc:description/>
  <dc:language>en-US</dc:language>
  <cp:lastModifiedBy>seni</cp:lastModifiedBy>
  <dcterms:modified xsi:type="dcterms:W3CDTF">2010-05-04T08:50:37Z</dcterms:modified>
  <cp:revision>22</cp:revision>
  <dc:subject/>
  <dc:title>Digital avis/plakat</dc:title>
</cp:coreProperties>
</file>